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4BC727C-4E97-46CF-B775-62CCE7AFA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A8E1B77-FB47-4198-A402-1A373D0A2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1E88ABD-7232-4A12-8DFE-0EE830BCF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B35A0AA-5A76-42B4-A51E-20A440B35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1FBF936-E83A-4D33-9625-DB5DEC4E6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0D7EC02-6D90-4FCE-B6B8-BC6777913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0360A3E-C02E-450C-BD80-F789B0F4B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709AFEB-7A28-423D-B7E8-1E3841ED7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0427-569C-4863-BF8E-73CA8918F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BCB4-505F-490A-9753-775F97F7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4A00-3FAB-4F93-AFB5-92D746C60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EB51-283F-4CC7-83D7-9F42460E3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4951-1CC2-4E55-BD0D-FA35C2AC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E8D4-4F08-45A0-9F0E-CA3BB6D4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5848-C9A6-4294-870C-EFB24BFD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970F-6DCB-401C-9F9A-C04AEB28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8CAF-A7D9-4BC2-9426-2BEEF091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454D-14C3-4D73-B478-6C48DC16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B165-0356-4402-B2CE-2C471057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E883-A0F2-41BC-B31E-5C636C3F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G-WBKGD1"/>
          <p:cNvPicPr/>
          <p:nvPr/>
        </p:nvPicPr>
        <p:blipFill>
          <a:blip r:embed="rId2"/>
          <a:srcRect l="0" t="0" r="0" b="197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C619-3660-457D-AF2C-5DEFC61C65CE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" name="Picture 9" descr="CGLOGO"/>
          <p:cNvPicPr/>
          <p:nvPr/>
        </p:nvPicPr>
        <p:blipFill>
          <a:blip r:embed="rId3"/>
          <a:stretch/>
        </p:blipFill>
        <p:spPr>
          <a:xfrm>
            <a:off x="7772400" y="142920"/>
            <a:ext cx="1371600" cy="13143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1" descr="IALA%20logo1"/>
          <p:cNvPicPr/>
          <p:nvPr/>
        </p:nvPicPr>
        <p:blipFill>
          <a:blip r:embed="rId4"/>
          <a:srcRect l="0" t="1749" r="831" b="875"/>
          <a:stretch/>
        </p:blipFill>
        <p:spPr>
          <a:xfrm>
            <a:off x="0" y="0"/>
            <a:ext cx="1025640" cy="15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8.wmf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990720"/>
            <a:ext cx="70106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ALA e-Navigation Committe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25146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l Cai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irman, IALA e-NAV Committe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. Nick 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ce Chair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P2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tober 20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rayal W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5331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e Alexander (USA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nji Fukuto (Japa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note to VTS on e-Navigation Portrayal Guidelines (output/2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5943600" y="4816440"/>
            <a:ext cx="3200400" cy="2041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380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rt and Updated Work Programme (output/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tegy elements assig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task to manage the IALA domain in IHO S-99 and S-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s for P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igation across IALA Committ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ory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ling numbers/attend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upport for disturbing Committee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4 participants was manageable in plen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s not an issue in W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mend status qu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7620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-NAV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5331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4 registered attende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1 new particip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d the 2010-2014 work program as agreed by Counci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 output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 output documents for approval of Counc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draft Recommen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draft Guid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draft Information No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 liaison notes to other organizations and IALA committ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a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ing an e-Navigation Mindset – Nick Ward for Andy Nor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wegian test results on S-100 – Jarle Ha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EfficienSea Update – Thomas Christensen (DaMS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SEAS Proposal for a North Sea e-Navigation Test Bed – Nick 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ALA e-NAV WG Structu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-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 P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-AIS Techn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-Commun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-Architecture Techn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-Portray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Object 7"/>
          <p:cNvGraphicFramePr/>
          <p:nvPr/>
        </p:nvGraphicFramePr>
        <p:xfrm>
          <a:off x="6553080" y="3733920"/>
          <a:ext cx="1676520" cy="11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3733920"/>
                    <a:ext cx="1676520" cy="110016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1" name="Picture 4" descr="AIS"/>
          <p:cNvPicPr/>
          <p:nvPr/>
        </p:nvPicPr>
        <p:blipFill>
          <a:blip r:embed="rId3"/>
          <a:stretch/>
        </p:blipFill>
        <p:spPr>
          <a:xfrm>
            <a:off x="4419720" y="3429000"/>
            <a:ext cx="1523880" cy="1119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2" name="Picture 5" descr=""/>
          <p:cNvPicPr/>
          <p:nvPr/>
        </p:nvPicPr>
        <p:blipFill>
          <a:blip r:embed="rId4"/>
          <a:stretch/>
        </p:blipFill>
        <p:spPr>
          <a:xfrm>
            <a:off x="5867280" y="2133720"/>
            <a:ext cx="1828800" cy="1306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North Pacific heavy weather 02"/>
          <p:cNvPicPr/>
          <p:nvPr/>
        </p:nvPicPr>
        <p:blipFill>
          <a:blip r:embed="rId5"/>
          <a:stretch/>
        </p:blipFill>
        <p:spPr>
          <a:xfrm>
            <a:off x="3886200" y="1600200"/>
            <a:ext cx="1676520" cy="1144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Object 1"/>
          <p:cNvGraphicFramePr/>
          <p:nvPr/>
        </p:nvGraphicFramePr>
        <p:xfrm>
          <a:off x="4343400" y="5029200"/>
          <a:ext cx="2338560" cy="1598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Object 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343400" y="5029200"/>
                    <a:ext cx="233856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Picture 3" descr=""/>
          <p:cNvPicPr/>
          <p:nvPr/>
        </p:nvPicPr>
        <p:blipFill>
          <a:blip r:embed="rId8"/>
          <a:stretch/>
        </p:blipFill>
        <p:spPr>
          <a:xfrm>
            <a:off x="6934320" y="5448240"/>
            <a:ext cx="2209680" cy="14097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ions W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vid Patraiko (Nautical Institut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Mahesh Alimchandani (Australi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to IMO CG on e-NAV (output/2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d e-Navigation FAQs (output/2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North Pacific heavy weather 02"/>
          <p:cNvPicPr/>
          <p:nvPr/>
        </p:nvPicPr>
        <p:blipFill>
          <a:blip r:embed="rId1"/>
          <a:stretch/>
        </p:blipFill>
        <p:spPr>
          <a:xfrm>
            <a:off x="7315200" y="5607000"/>
            <a:ext cx="1828800" cy="125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NT W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ter Douglas (Scotlan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in Day (Irelan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ft Recommendation on IALA Strategy for Maintaining Racon Service Capability (output/1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planned Output proposal to MSC on Multi-system Shipborne Rcvrs (output/1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5181480" y="4952880"/>
            <a:ext cx="39625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AIS"/>
          <p:cNvPicPr/>
          <p:nvPr/>
        </p:nvPicPr>
        <p:blipFill>
          <a:blip r:embed="rId1"/>
          <a:stretch/>
        </p:blipFill>
        <p:spPr>
          <a:xfrm>
            <a:off x="6400800" y="5451480"/>
            <a:ext cx="2743200" cy="14065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S Technical W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lf Zetterberg (Swed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rge Arroyo (USA)  (apolog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ft revised IALA Rec. A-124 with Appendic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outputs/6-1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note to ITU-R on proposed revision of M.1371-4  (output/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Note to IEC on ITU M.1371-4 (output/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note to ANM on minor changes to O-139 (output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munications W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RelationshipMode_revised"/>
          <p:cNvPicPr/>
          <p:nvPr/>
        </p:nvPicPr>
        <p:blipFill>
          <a:blip r:embed="rId1"/>
          <a:stretch/>
        </p:blipFill>
        <p:spPr>
          <a:xfrm>
            <a:off x="6705720" y="5089680"/>
            <a:ext cx="2438280" cy="1768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l Kautz (U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ter Blackhurst (INMARSAT) (apologi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note on Essential Communications Elements of e-Navigation (output/1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note to ITU-R WP5B on Spectrum Requirements for e-Navigation (output/1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note to RTCM (output/2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chitecture Technical W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-Hendrik Oltmann (German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ul Mueller (Tideland) (apolog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paper on IALA Participation in IHO Geospatial Information Registry (output/1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mitting Orga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ain Ow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Object 1"/>
          <p:cNvGraphicFramePr/>
          <p:nvPr/>
        </p:nvGraphicFramePr>
        <p:xfrm>
          <a:off x="5867280" y="4807080"/>
          <a:ext cx="3159360" cy="20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807080"/>
                    <a:ext cx="3159360" cy="20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15:53:10Z</dcterms:created>
  <dc:creator>nickw</dc:creator>
  <dc:description/>
  <dc:language>en-US</dc:language>
  <cp:lastModifiedBy>William R Cairns</cp:lastModifiedBy>
  <dcterms:modified xsi:type="dcterms:W3CDTF">2011-10-05T11:35:53Z</dcterms:modified>
  <cp:revision>105</cp:revision>
  <dc:subject/>
  <dc:title>PowerPoint Presentation</dc:title>
</cp:coreProperties>
</file>